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08D4-645E-42BA-B5ED-A68A17822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D9F9-4FE2-4721-8D25-19BA2528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61B0-F69A-482E-A243-1B2C0FDE0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CB92-41A3-4C7A-8728-7CBA78502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A2DC-D5EA-498F-848F-4A4DEBC0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8FB6-C768-454E-87FD-1634CF4B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5E62-A5E2-407C-9E0C-ACF2B465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916F-B44F-4C1C-9871-6BE4DD2B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6204-B36D-419E-BCE4-101F28B6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7398-4FB4-4F00-A84A-CD32BCF7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A4D2-A8E5-435E-9B3E-B320BCB8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FC25-EB05-4280-AEFC-4D8AE57B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D395-70C0-4193-8161-60DA250A9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692280"/>
            <a:ext cx="867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000" y="549360"/>
            <a:ext cx="7488360" cy="55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ОПОВІДЬ НАУКОВОГО СЕМІНА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А ТЕМ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Створення моделі використання ІАС контролю та оцінювання навчальної діяльності студентів ВНЗ для заочної та денної  форм навчання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ОВІДАЧ: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.Т.Н., ДОЦЕНТ   ОКСАМИТНА Л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26920" y="260280"/>
            <a:ext cx="8066160" cy="66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Системна модель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інформаційної аналітичної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системи є системою моделей складної системи і покликана відображати різноманітні аспекти структури навчальної діяльності ВНЗ, функціонування (перебігу процесів навчання та контролю знань) та розвитку (адаптації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Ці аспекти мають різні рівн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Times New Roman"/>
              </a:rPr>
              <a:t>Перший рівень – рівень цілей</a:t>
            </a:r>
            <a:r>
              <a:rPr b="0" i="1" lang="uk-UA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Даний рівень становить сукупність цілей навчання, як деяку систему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авильна постановка цілей навчання є визначним фактором при розробці  дистанційного курс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Структура системи цілей деревоподібна і може бути описана наступним чино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де 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– кінцева ціл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                         –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відображення, що визначають для кожного                       кожної цілі             , що задані на множині об’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єктів, задіяних в процесі навчанн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ціль                  , підціллю якої є      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Кожний елемент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uk-UA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системи цілей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z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можна представити у вигляді множин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= &l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&gt;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–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результат, який потрібно отримати відповідно до поставленої цілі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–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оцінка якості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–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вимоги до отримання результат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S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затрати ресурсів, які потрібні для отримання результат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–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час отримання результа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Між цілями існують відображення, що встановлюють міжрівневі зв’яз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и цьому кожна ціль, в свою чергу, розбивається на підмножину альтернативних ці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07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708360" y="2133720"/>
                <a:ext cx="302580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Ц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∪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258920" y="2852640"/>
                <a:ext cx="792000" cy="2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187280" y="3068640"/>
                <a:ext cx="82872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580000" y="3068640"/>
                <a:ext cx="792360" cy="2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,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7380360" y="3068640"/>
                <a:ext cx="5047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332000" y="3500280"/>
                <a:ext cx="68580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348000" y="350028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7487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</a:rPr>
              <a:t>Рівень задач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є другим рівнем системної моделі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інформаційної аналітичної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системи та становить систему (сукупність) зада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Задача навчання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– це більш детальний опис того, що особа, яка навчається, може  робити краще після вивчення Д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Кожна задача  формально може бути виражена у такому вигляді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де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    – множина (перелік) вихідних даних задачі    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                      –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множина результатів розв’язання задачі    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На множині задач  задано також функції:                          і     , що визначають для кожної задачі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i="1" lang="uk-UA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) –  модель особи, що навчаєть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i="1" lang="uk-UA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) –  модель організації навчальних матеріалі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          – 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метод розв’язання задачі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          –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обмеження, що використовуються при розв’язанні задачі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Для кожної задачі задається  множина обмеже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          –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оцінка результатів розв’язку задачі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Відносно          і          проходить процес прийняття рішень рівня зада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780000" y="1709640"/>
                <a:ext cx="18000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З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σ</m:t>
                    </m:r>
                    <m:r>
                      <m:t xml:space="preserve">(</m:t>
                    </m:r>
                    <m:r>
                      <m:t xml:space="preserve">З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З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971640" y="2276640"/>
                <a:ext cx="4316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(</m:t>
                    </m:r>
                    <m:r>
                      <m:t xml:space="preserve">З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435640" y="2276640"/>
                <a:ext cx="20016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З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435640" y="2492280"/>
                <a:ext cx="19836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З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015920" y="2492280"/>
                <a:ext cx="27468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З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140360" y="2997360"/>
                <a:ext cx="36036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500720" y="2997360"/>
                <a:ext cx="873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Т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508720" y="3022560"/>
                <a:ext cx="169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68360" y="3959280"/>
                <a:ext cx="46836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З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68360" y="4221000"/>
                <a:ext cx="43164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(</m:t>
                    </m:r>
                    <m:r>
                      <m:t xml:space="preserve">З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68360" y="4724280"/>
                <a:ext cx="468360" cy="2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З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332000" y="5229360"/>
                <a:ext cx="3603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(</m:t>
                    </m:r>
                    <m:r>
                      <m:t xml:space="preserve">З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908000" y="5229360"/>
                <a:ext cx="4143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З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4360" y="547920"/>
            <a:ext cx="8208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вень алгоритмів (засобів) навчання та контролю знань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ретій рівень) – це логіко-динамічна система (ЛДС), елементами якої є операц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ристовуючи засоби моделювання і відтворюючи алгоритм на ЕОМ, можна визначити основні тимчасові параметри, які затрачені на виконання тих або інших операторів і цілих їх послідовнос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ий рівень системної моделі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лементи цього рівня назвемо організаційно-технічними підрозділами, які є виконавцями, що мають усі види забезпечення. Підрозділи організовані у логіко-динамічну систему (ієрархічного типу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-4541760" y="3309840"/>
                <a:ext cx="34272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/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684360" y="3054600"/>
            <a:ext cx="828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 навчальної діяльності.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цьому рівні представляється як організація деякої, у тому числі альтернативної, взаємодії елементів організаційної структури при досягненні цілей і розв’язанні задач відповідно до вибраних алгоритмів навчальної діяльності. Це забезпечує комфорт особі, що навчається, надаючи можливість допомоги в навігації, доступу до навчальних та інформаційних матеріалів та засобів взаємодії з іншими учасниками ДО. Наявність альтернативної різноманітності забезпечується наявністю розгалуженої альтернативної структури виконання. Щоб мати можливість описувати такі структури узагальненими математичними моделями, використовується структурний підхі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360440" y="2816280"/>
                <a:ext cx="36036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/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11280" y="549360"/>
            <a:ext cx="8066160" cy="60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Більш детально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модель використання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ІАС контролю та оцінювання навчальної діяльності студентів ВНЗ можна представити наступним чином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МІАС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={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},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множина об’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єктів, за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діяних в процесі навчання;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множина відношень, заданих на множині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.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Нехай множина       представлена наступним чином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= {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},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множин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икладачі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за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діяних в процесі навчання: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V= {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}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множина осіб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які навчаються: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= {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},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засоби навчання та контролю знань: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= {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},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навчальні матеріали;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методичні засоби навчання;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технічні засоби навчання;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засоби навчання на основі сучасних інформаційних технологі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716360" y="1430280"/>
                <a:ext cx="4320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,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258920" y="1700280"/>
                <a:ext cx="20160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258920" y="1989000"/>
                <a:ext cx="26208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940360" y="1989000"/>
                <a:ext cx="20160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067280" y="2781360"/>
                <a:ext cx="20160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340000" y="2276640"/>
                <a:ext cx="20160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26920" y="359640"/>
            <a:ext cx="8137800" cy="59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редставимо  засоби навчання  у вигляді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={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41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42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}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де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41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комп’ютерні комунікації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42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середовище навчальної діяльності, яке включає в себ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засоби викладання (інтерактивні та неінтерактивні, мультимедійні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засоби контролю знан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засоби сертифікац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Особу, яка навчається,   можна представити у вигляді множини певних атрибуті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={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}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чатковий рівень підготовки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особи, яка навчаєть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сихологічні властивості особи, яка навчаєть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озумові здібності особи, яка навчаєть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творчі здібності особи, яка навчаєть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івень підготовки особи, яка навчається, до роботи з системо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знання особи, яка навчається, з дистанційного курс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івень знань особи, яка навчається, після завершення навч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68360" y="239040"/>
            <a:ext cx="8496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Процес навчання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– це послідовна сукупність засвоєння окремих розділів навчального матеріалу. Кожен етап навчальної діяльності закінчується процесом тестування з відповідними результатами. Особі, що навчається,  надається можливість в ході процесу навчання вибирати засоби засвоєння навчального матеріа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Модель особи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, яка навчається, можна представити у вигляді множин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=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&gt;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кінченна множина входів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–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кінченна множин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стані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кінченна множин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иході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очатковий ста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функція переході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функція виход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Функція переходу породжує множину матриць переходів, а функція виходу – матрицю виходу. Серед множини станів можна виділити множину заключних станів, і кожен стан залежить від попереднього. Одержана залежність може бути представлена графом, що містить послідовність підцілей, множину належності елементів стану. Таким чином, в результаті отримаємо недетермінований автомат, який моделює поведінку особи, яка навчається,  в ході навчальної діяльності при різних результатах тестув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0920" y="632160"/>
            <a:ext cx="864072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ОПОВІДЬ ЗАВЕРШ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ЯКУЮ ЗА УВАГУ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20:08Z</dcterms:created>
  <dc:creator>Vet</dc:creator>
  <dc:description/>
  <dc:language>en-US</dc:language>
  <cp:lastModifiedBy>nout</cp:lastModifiedBy>
  <dcterms:modified xsi:type="dcterms:W3CDTF">2009-09-17T11:08:10Z</dcterms:modified>
  <cp:revision>55</cp:revision>
  <dc:subject/>
  <dc:title>Слайд 1</dc:title>
</cp:coreProperties>
</file>